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47E-1794-443A-92C3-59EBBBE1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BF3-91CA-48F3-874E-ED0AC499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5CC-0AA8-4606-8B8A-CD1C6C97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B12-2086-4937-B356-4BB0BC83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323-28D6-43C7-A732-AF862639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3B5-5398-485B-9A5F-C7843B58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F75-E207-4B4F-B7C9-18FEA774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FD3-7310-4528-9726-CBAD6F6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2FE-F729-47A4-A68B-F2243976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6B6-AD4B-4A39-B99B-15B54C04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3E0-2E43-4A96-8C19-E8CE4D79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F12-AB36-4AB4-B474-443C435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C7ED-C14E-446D-BC87-DDB649CE8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19280" y="2133720"/>
            <a:ext cx="6696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ection A 2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a-3c</a:t>
            </a:r>
            <a:endParaRPr b="1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67148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404640"/>
            <a:ext cx="513576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Unit 7</a:t>
            </a:r>
            <a:endParaRPr b="1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hat's the highest mountain </a:t>
            </a:r>
            <a:endParaRPr b="1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n the world?</a:t>
            </a:r>
            <a:endParaRPr b="1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602136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V="1" rot="10800000">
            <a:off x="450360" y="1526400"/>
            <a:ext cx="822492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e of the most ___________ sports in the world is mountain _________, and one of the most _________ places to go for this is the Himalayas. These extremely high _______ attract _________ from all over the world. Many people say this is one of the most ________ parts of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3400" y="404640"/>
            <a:ext cx="8310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ccording to the passage,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9080" y="157788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anger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7800" y="221940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1440" y="279576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p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2720" y="39337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3320" y="458136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2360" y="581184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m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784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2520" y="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V="1" rot="10800000">
            <a:off x="355680" y="338760"/>
            <a:ext cx="832320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imalayas _______ along the ____________ border of china. Of all the peaks (tops), Qomolangma is the _________ and most _________. It’s _____________ to climb Qomolangma because thick clouds _______ the top of the mountain. Even more serious ___________ include the freezing ___________ conditions and the _______ stor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0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000" y="98748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uthwe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7080" y="220500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7440" y="2133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m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8360" y="278136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hard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8880" y="336384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3440" y="455436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fficul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8720" y="520236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0160" y="52293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63480" y="549360"/>
            <a:ext cx="79408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_________ to reach the top of Qomolangma – Tenzing Norgay and Edmund Hillary – did it in 1953. The first Chinese climber __________ the top in 1960, and in 1975, the first __________ did it to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26000" y="59364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29640" y="2610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c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7080" y="3906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the article again, and answer the follow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86360" y="31896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342000"/>
            <a:ext cx="8569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What a mountain is Himalay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Why is it dangerous to clim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molang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When did the first Chinese reach the to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Qomolang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907920"/>
            <a:ext cx="7775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one of the most popular places for mountain climb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9280" y="3513240"/>
            <a:ext cx="79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cause thick clouds cover the top and snow can fall very h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3080" y="544500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196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476280"/>
            <a:ext cx="8410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Read the article again and complete the ch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203480"/>
          <a:ext cx="8229600" cy="5654520"/>
        </p:xfrm>
        <a:graphic>
          <a:graphicData uri="http://schemas.openxmlformats.org/drawingml/2006/table">
            <a:tbl>
              <a:tblPr/>
              <a:tblGrid>
                <a:gridCol w="2459160"/>
                <a:gridCol w="3027240"/>
                <a:gridCol w="27432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 tour dangers for climber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 three achievem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 tour comparis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ck clou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3—Tenzing Norgay and Edmund Hillary were the first to reach the 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 dangerous spor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Oval 2"/>
          <p:cNvSpPr/>
          <p:nvPr/>
        </p:nvSpPr>
        <p:spPr>
          <a:xfrm>
            <a:off x="71280" y="189000"/>
            <a:ext cx="540000" cy="587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4000" y="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k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06280" y="457200"/>
          <a:ext cx="8686800" cy="5851440"/>
        </p:xfrm>
        <a:graphic>
          <a:graphicData uri="http://schemas.openxmlformats.org/drawingml/2006/table">
            <a:tbl>
              <a:tblPr/>
              <a:tblGrid>
                <a:gridCol w="2494080"/>
                <a:gridCol w="2763720"/>
                <a:gridCol w="34290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now can fall very ha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ezing weathe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ndi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avy stor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e first Chinese team reached the top in 1960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e first woman to succeed was Junko Tabei from Japan in 1975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ople can challenge themselves in the face of difficultie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ever give up trying to achieve our dream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umans can be stronger than the forces of nature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63640" y="62064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swer the questions using information from the artic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2133720"/>
            <a:ext cx="68403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ere are the Himalay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ow high is Qomolang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55840" y="2997360"/>
            <a:ext cx="69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e southwestern part of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8160" y="4437000"/>
            <a:ext cx="43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,844.43 meters hi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"/>
          <p:cNvSpPr/>
          <p:nvPr/>
        </p:nvSpPr>
        <p:spPr>
          <a:xfrm>
            <a:off x="826920" y="765000"/>
            <a:ext cx="8985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21440" y="18900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8200" y="333360"/>
            <a:ext cx="81374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y do so many people try to clim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mountain even though it 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nger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at does the spirit of the cli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984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9840" y="2276640"/>
            <a:ext cx="7272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cause people want to challenge themselves in the face of difficul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9840" y="5013360"/>
            <a:ext cx="7347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 should never give up trying to achieve our dre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1916280"/>
          <a:ext cx="8229600" cy="1645920"/>
        </p:xfrm>
        <a:graphic>
          <a:graphicData uri="http://schemas.openxmlformats.org/drawingml/2006/table">
            <a:tbl>
              <a:tblPr/>
              <a:tblGrid>
                <a:gridCol w="1738440"/>
                <a:gridCol w="3528720"/>
                <a:gridCol w="296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Ni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Yangtze Riv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Yellow Riv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6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611280" y="3645000"/>
            <a:ext cx="7993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Yellow River i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Yangtze River is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 lot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Yellow Ri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ile is ____________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f 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3680" y="430056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3800" y="558972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lon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272880"/>
            <a:ext cx="6624360" cy="13554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ke sentences using the information in the for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260280"/>
            <a:ext cx="18954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Exercise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2360" y="1413000"/>
            <a:ext cx="86407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3399"/>
                </a:solidFill>
                <a:latin typeface="Times New Roman"/>
              </a:rPr>
              <a:t>Which is the highest mountain in the worl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3399"/>
                </a:solidFill>
                <a:latin typeface="Times New Roman"/>
              </a:rPr>
              <a:t>Which is the longest river in Asia? 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11280" y="2997360"/>
            <a:ext cx="7992720" cy="3789000"/>
            <a:chOff x="611280" y="2997360"/>
            <a:chExt cx="7992720" cy="3789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rcRect l="0" t="0" r="0" b="14546"/>
            <a:stretch/>
          </p:blipFill>
          <p:spPr>
            <a:xfrm>
              <a:off x="611280" y="2997360"/>
              <a:ext cx="2664360" cy="18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3275640" y="2997360"/>
              <a:ext cx="2801160" cy="18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6077160" y="2997360"/>
              <a:ext cx="2526840" cy="17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rcRect l="0" t="0" r="0" b="9700"/>
            <a:stretch/>
          </p:blipFill>
          <p:spPr>
            <a:xfrm>
              <a:off x="1293480" y="4804920"/>
              <a:ext cx="318384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6"/>
            <a:srcRect l="0" t="0" r="0" b="1834"/>
            <a:stretch/>
          </p:blipFill>
          <p:spPr>
            <a:xfrm>
              <a:off x="4437000" y="4804920"/>
              <a:ext cx="3073680" cy="19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>
            <a:off x="2700360" y="189000"/>
            <a:ext cx="345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Revisio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3078000"/>
            <a:ext cx="8136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Yangtze River i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o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long ____ the Ni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The Yangtze River i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o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Ni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7080" y="315756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            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8040" y="44528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73200" y="836640"/>
          <a:ext cx="8002440" cy="1876320"/>
        </p:xfrm>
        <a:graphic>
          <a:graphicData uri="http://schemas.openxmlformats.org/drawingml/2006/table">
            <a:tbl>
              <a:tblPr/>
              <a:tblGrid>
                <a:gridCol w="1690560"/>
                <a:gridCol w="3432240"/>
                <a:gridCol w="287964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Ni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Yangtze Riv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Yellow Riv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6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280" y="1928880"/>
            <a:ext cx="7931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ount Tai is 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high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ount Huang is </a:t>
            </a: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a little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 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than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ount Tai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Qomolangma is ____________ 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of al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448160"/>
            <a:ext cx="842508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ount Tai is 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not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 high ___ Qomolangm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= Mount Tai is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 not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_______ 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than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Qomolangm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8880" y="2538360"/>
            <a:ext cx="138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hig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0" y="3716280"/>
            <a:ext cx="2181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the highe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0000" y="4508640"/>
            <a:ext cx="2355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as             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3440" y="5051520"/>
            <a:ext cx="138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hig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404640"/>
          <a:ext cx="7715160" cy="1297080"/>
        </p:xfrm>
        <a:graphic>
          <a:graphicData uri="http://schemas.openxmlformats.org/drawingml/2006/table">
            <a:tbl>
              <a:tblPr/>
              <a:tblGrid>
                <a:gridCol w="2602080"/>
                <a:gridCol w="2665080"/>
                <a:gridCol w="2448000"/>
              </a:tblGrid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omolang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nt Hua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nt T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4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The population of Singapore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arg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population of Malaysia is much ______ than that of Singap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population of China is _________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f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39560" y="1052640"/>
          <a:ext cx="8242200" cy="1555560"/>
        </p:xfrm>
        <a:graphic>
          <a:graphicData uri="http://schemas.openxmlformats.org/drawingml/2006/table">
            <a:tbl>
              <a:tblPr/>
              <a:tblGrid>
                <a:gridCol w="2700360"/>
                <a:gridCol w="2765520"/>
                <a:gridCol w="2776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ap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ays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0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190160" y="43401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a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33040" y="50608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lar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90400" y="2585880"/>
            <a:ext cx="822960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The population of Singapore is not _____ large ____ that of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The population of Singapore is not _______ than that of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43360" y="33354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23720" y="470232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a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93560" y="340668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39560" y="836640"/>
          <a:ext cx="8242200" cy="1555560"/>
        </p:xfrm>
        <a:graphic>
          <a:graphicData uri="http://schemas.openxmlformats.org/drawingml/2006/table">
            <a:tbl>
              <a:tblPr/>
              <a:tblGrid>
                <a:gridCol w="2700360"/>
                <a:gridCol w="2765520"/>
                <a:gridCol w="2776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ap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ays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0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44720" y="3203640"/>
            <a:ext cx="70563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Retell the article, then preview the Grammar foc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95640" y="1916280"/>
            <a:ext cx="46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808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Homework</a:t>
            </a:r>
            <a:endParaRPr b="1" lang="en-US" sz="1800" spc="1" strike="noStrike">
              <a:ln w="12600">
                <a:solidFill>
                  <a:srgbClr val="80808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i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students’ reading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e key sentences  in 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e p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979640"/>
            <a:ext cx="80964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do you know about Qomolang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lk about Qomolangma in pairs.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0" b="6727"/>
          <a:stretch/>
        </p:blipFill>
        <p:spPr>
          <a:xfrm>
            <a:off x="4572000" y="3716280"/>
            <a:ext cx="4502160" cy="2800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484360" y="76500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re-reading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lus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209600"/>
            <a:ext cx="86421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自读文章，在书中划出重点、疑点后，翻译下列短语。先独立完成，后小组商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565360"/>
            <a:ext cx="770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最危险的山峰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界上最危险的运动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登山（名词短语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动词短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3284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most dangerous m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0760" y="4554360"/>
            <a:ext cx="81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e of the world’s most dangerous s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1800" y="594360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untain climbing/climb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144360"/>
            <a:ext cx="4248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Reading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p:transition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693720"/>
            <a:ext cx="67690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自世界各地的登山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横亘于中国的西南边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所有的山峰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厚厚的云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240" y="1413000"/>
            <a:ext cx="72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climbers from all over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709720"/>
            <a:ext cx="82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 along the southwestern part of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7080" y="4011480"/>
            <a:ext cx="40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f all the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2680" y="538020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ck 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7080" y="650880"/>
            <a:ext cx="73454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更为严重的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寒冷的天气状况和强劲的暴风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首次到达珠穆朗玛峰顶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13716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re serious difficul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0360" y="2595600"/>
            <a:ext cx="6840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reezing weather conditions and heavy st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4920" y="4611600"/>
            <a:ext cx="6842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first people to reach the top of Qomolan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76360" y="126828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ad the article and match each paragraph with the main id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2781360"/>
            <a:ext cx="7632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graph 1            spirit of cli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graph 2            achievement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graph 3            facts and da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3357720"/>
            <a:ext cx="143964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005360"/>
            <a:ext cx="129528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348000" y="3357720"/>
            <a:ext cx="129528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"/>
          <p:cNvSpPr/>
          <p:nvPr/>
        </p:nvSpPr>
        <p:spPr>
          <a:xfrm>
            <a:off x="468360" y="1341360"/>
            <a:ext cx="8985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220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8000" y="35100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00:50:27Z</dcterms:created>
  <dc:creator/>
  <dc:description/>
  <dc:language>en-US</dc:language>
  <cp:lastModifiedBy/>
  <dcterms:modified xsi:type="dcterms:W3CDTF">2015-04-06T09:14:54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